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5D12EBE5-5456-4CA2-93E4-ADB6909C0318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E9B4D73D-B865-4D92-95F9-CD1A1440D1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93A536A-B817-4ECE-8CD1-92E9CF7A2D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6BC6F9C-E614-423A-BE5F-DC210A3EC7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B27A7188-4603-4392-A18D-C747BF8BBC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C3E9320F-A5C8-4F59-8A6E-D204EC1FD8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53009CA-83B0-49E5-9DEA-453ED0B16A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01A7A964-415B-4A0B-B60E-6849C6EE2FA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054175B6-D86B-417D-BFF3-07DF9F2A70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971FB332-030A-43C6-9348-86167F6ACD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AF2A4C07-DECC-4389-9FB0-B7ED2099B8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9F0157BD-525C-4224-9976-627AA2747D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830EC36-3573-4FBE-B1DF-7FDEE82E70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659F5B5A-E44C-4CF5-8F1E-300E7C1CD5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372-B5C5-425D-9978-FAEF0C5B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90F-9B45-4345-8546-FF3ED593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337-1E37-4916-AC2E-1C216BB1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62C-9CBB-4050-9DB3-0458D58B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7E77-395C-4666-80D5-1C56E9C9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D031-4C52-4C47-ADDA-57BFD095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0D4E-ED82-4844-8D80-0F75630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DD7A-E7F6-4A00-B959-3DFB928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95E-E326-4428-88A2-294A96B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C5C8-0BAE-4F24-A994-237931A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5735-B3C2-4335-A348-C9C56DE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C3E-B8D3-4640-8033-DDED99AF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5292-72E7-4B23-A3E4-534325C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82E0-4A97-4795-8BB5-AF63D7E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7CD3-DBD0-4F2A-AABA-62908AF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A85B-47F9-4192-9F4F-248E1D1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9D6C-940A-40C6-8E86-6DB75AD3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8BE3-56DB-4954-AC1C-026B7165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B2EF-E795-421F-B068-2A9B194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E817-2E41-4E3D-8737-7149B46C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CCB3-14E0-46B6-9640-85563B3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AC78-9E1B-4FA7-8DE5-5CB58DF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C85-2272-4C61-9172-85A184C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6BC6-1ECC-44CE-9F5D-054EA8E3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C8ED-6A1C-48B6-8BB7-6C0836D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FA3E-7CED-4604-9CD9-922C1C8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400A-457F-4B04-B3B6-3EB19CD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98B3-ACF8-4D33-AA4D-9572FBBE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B28B-06EE-45FF-884B-06584FBD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420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04760" y="150012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40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420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04760" y="3864240"/>
            <a:ext cx="27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800F-4862-4EC3-B52F-33207E7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A64-6EF4-4694-A6FD-406E2E4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A5D-8655-4758-86A8-B1D452E5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E10-7628-4321-A244-CE3CDE4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451-1DDE-47DA-A3FB-748273A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86424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DBB-6F35-4C38-B4CB-BF993E8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500120"/>
            <a:ext cx="412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864240"/>
            <a:ext cx="84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6F6-16D2-459B-9202-C5C20DDB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Workshop KINGjaarcongres 06 januari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04E1C-7900-4403-93BB-DDE91E8D6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9AE98-E881-48F9-853F-09E183AE07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3094.1010_KING_Mas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3094.1010_KING_Mast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3094.1010_KING_Tite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Click to edit the outline text format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con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Third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3" marL="160020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our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4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Fif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ix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d0c8b"/>
                </a:solidFill>
                <a:latin typeface="Verdana"/>
              </a:rPr>
              <a:t>Seventh Outline Level</a:t>
            </a: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22680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Workshop KINGjaarcongres 06 januari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5330D-B455-498A-8533-50728E5C9F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peter.klaver@kinggemeenten.nl" TargetMode="External"/><Relationship Id="rId2" Type="http://schemas.openxmlformats.org/officeDocument/2006/relationships/hyperlink" Target="mailto:jan.brinkkemper@kinggemeenten.nl" TargetMode="Externa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0520" y="3041280"/>
            <a:ext cx="66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4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Verdana"/>
                <a:ea typeface="Verdana"/>
              </a:rPr>
              <a:t>Standaard zaak,- en </a:t>
            </a:r>
            <a:br>
              <a:rPr sz="3500"/>
            </a:br>
            <a:r>
              <a:rPr b="1" lang="en-US" sz="3500" spc="-1" strike="noStrike">
                <a:solidFill>
                  <a:srgbClr val="ffff00"/>
                </a:solidFill>
                <a:latin typeface="Verdana"/>
                <a:ea typeface="Verdana"/>
              </a:rPr>
              <a:t>DMS servi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227160" y="5923080"/>
            <a:ext cx="8916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eter Klaver en Jan Brinkkemp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  Woerden,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25 oktober 201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69880" y="112392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5200" y="274680"/>
          <a:ext cx="7162920" cy="6243480"/>
        </p:xfrm>
        <a:graphic>
          <a:graphicData uri="http://schemas.openxmlformats.org/drawingml/2006/table">
            <a:tbl>
              <a:tblPr/>
              <a:tblGrid>
                <a:gridCol w="419040"/>
                <a:gridCol w="2219400"/>
                <a:gridCol w="731880"/>
                <a:gridCol w="1015920"/>
                <a:gridCol w="1017720"/>
                <a:gridCol w="1041480"/>
                <a:gridCol w="717480"/>
              </a:tblGrid>
              <a:tr h="380880">
                <a:tc gridSpan="2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fa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eserv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F 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akservices (1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F 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akdocumentservices (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IS 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cumentservices (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IS</a:t>
                      </a:r>
                      <a:br>
                        <a:rPr sz="1200"/>
                      </a:b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gratieservices (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adplegen zaakgegeve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sta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detai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84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derhouden zaakgegeven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ualiseer Zaaksta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ëer Zaa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pdate Zaa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eer Zaakidentificati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Z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3800">
                <a:tc gridSpan="3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adplegen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lijst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document lez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derhouden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oeg Zaakdocument to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ppel Zaakdocument aan Zaa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ak Zaakdocu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pdate Zaakdocu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ef Zaakdocument bewerk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eer Documentidentificati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S/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, Ds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304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nchroniseren van zaakgegevens en zaakdocument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MIS integratieservices (CMIS Changelog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MS/Z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5760">
                <a:tc gridSpan="6"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erviceconsumer/serviceprovide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1) Gevolgen nieuwe verdeling functional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000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Het Zaaksysteem biedt verplicht de StUF Zaakservices en de StUF Documentservices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Interactie met DMS verloopt via CMIS (Documentservices en integratieservices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Het DMS biedt optioneel de StUF Document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Interactie met Zaaksysteem op basis van StUF ZKN (Zaak,- en zaakdocumentservices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Het Zaaksysteem synchroniseert met het DMS door middel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Gebruik van van CMIS operaties 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door het ophalen/verwerken van een CMIS changelo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Het Zaaksysteem hoeft geen StUF berichten te genereren op basis van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MIS changelog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Interfaces voor DMS op basis van C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7142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duidelijk of CMIS documentinterface op het DMS optioneel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duidelijk welke CMIS operaties/services aangeboden moeten worden door D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e interactie met DMS verloopt via CM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erp beschrijven welke CMIS operaties onderdeel zijn van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IS documentservices en CMIS integratie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or de zaakdocumentservices en integratieservices (6 t/m 15) beschrijven hoe die met CMIS ingevuld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teractie met DMS kan scherper beschreven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ocument Service Consumers kunnen via CMIS (zaak)documenten aanleve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Verbreding van werkingsgebied. Door de CMIS document interface verplicht te stellen beschrijft de standaard ook hoe ‘niet zaak documenten’ aangeleverd kunnen worden aan het D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 Motivatie beschrijven waarom kiezen vo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 dit moment staat in de specificatie onvoldoende gemotiveerd waarom gekozen is voor CMI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t zorgt voor discu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20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e toevoegen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038400" cy="616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38400" y="0"/>
            <a:ext cx="3076560" cy="4524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4657680" y="1760400"/>
            <a:ext cx="448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 Argumenten waarom we voor CMIS kiez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7640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Het gebruik van internationale (open) standaarden als CMIS leidt tot een breder aanbod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van softwareproducten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NORA (v2) schrijft voor dat internationale standaarden boven nationale standaarden gaan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Het aanbod van DMS die ‘out of the box’  CMIS ondersteunt is groter groter dan StUF ZKN. Dat geldt ook voor Open source producten. Gemeenten krijgen daardoor meer keuzevrijheid.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CMIS is goed aan te sluiten op RGBZ waardoor het goed toepasbaar is voor beheer en ontsluiten van Zaakdocumenten 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CMIS biedt een bredere functionaliteit m.b.t. documentbeheer (locking, versioning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et CMIS kan een documentinterface aangeboden worden voor </a:t>
            </a:r>
            <a:r>
              <a:rPr b="0" i="1" lang="nl-NL" sz="1400" spc="-1" strike="noStrike">
                <a:solidFill>
                  <a:srgbClr val="000000"/>
                </a:solidFill>
                <a:latin typeface="Verdana"/>
              </a:rPr>
              <a:t>alle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documenten en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niet alleen zaakgerelateerde documente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Resultaatverplichting 20 operatieNUP zegt: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Verdana"/>
              </a:rPr>
              <a:t>“Bij aanbestedingen van software krijgt, bij gelijke geschiktheid, open source de voorkeur”.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4) Verplicht ondersteunen StUF Stuurgegev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iciet in de specificatie dat de volgende StUF Stuurgegevens verplich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ijn (p22)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organisatie&gt;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applicatie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administratie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&lt;/gebruiker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zien &lt;/applicatie&gt; verplicht is gesteld in de StUF 3.01 specificatie alle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t gegeven verplicht stell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aksysteem kan alleen maar op basis van het &lt;/applicatie&gt;stuurgegev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oordelen of de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gevraagde service /functie /koppeling door het zendende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systeem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Verdana"/>
              </a:rPr>
              <a:t>mag worden gebruikt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F services aanbieden zoals voorgeschreven in StUF 3.01 specific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 de huidige specificatie zijn twee mogelijkheden beschreven om de beschreven services te implementeren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lke service wordt als een concrete webservice geïmplementeerd of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‘StUF manier’, er wordt een aantal generieke webservice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(verwerkASynchroon, verwerkSynchroneKennisgeving etc.) geimplementeerd waarbinnen de beschreven services als operations worden aangebode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m goed aan te sluiten op StUF is het voorstel om de ‘StUF manier’ voor te schrijve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r helderheid: er wordt scherp gedefinieerd hoe de services geïmplementeerd moeten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specificatie sluit beter aan bij de StUF 3.01 standaa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6) Actief wijzigingen aan een zaak doorsturen naa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‘zaak afhandelende consumer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es moeten actief het Zaaksysteem bevragen om te kij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zich wijzigingen hebben voorgedaan die voor hen relevant zijn o.a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 de services Geef Zaakdetails en Geef Zaakstatu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jzigingen aan een zaak leiden tot StUF berichten die naa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‘zaak afhandelende consumer’ worden verstuur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beleggen in Zaaksyste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meenemen in versie 1.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evolg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systeem krijgt ‘abonnementen service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moeten bepalen bij welke wijzigingen welke StUF berichten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stuu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Zaaksysteem wordt complex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pecificatie word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eilijker te implemente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ige vragen en opm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‘Geef Zaakstatus’ service retourneert alleen de meest recent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TATUS. Is het wenselijk om ook alle doorlopen statussen te retourneren?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et er bij de asynchrone services afgesproken worden binnen hoeveel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ijd er gereageerd moet word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Hoe moet de ZTC opgenomen worden? Is nu inderdaad 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standaard’ maar wat is het dan wel? Is het nodig om ZTC in dit document 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eschrijv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phalen van de CMIS changelog o.b.v. pull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prefix KING is lastig te implementeren in DMS voo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lementen die reeds in een DMS bestaan zoals auteur titel en creatiedatum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rvaringen uit proefimplementaties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360" y="738360"/>
            <a:ext cx="7449840" cy="33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Introductie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Terugkoppeling voortgang proefimplementaties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monstratie Exxelle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Jnet/B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ere (proef)implementaties  (zie softw.ca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Terugkoppeling reviewronde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zicht ingediende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preken belangrijkste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d0c8b"/>
                </a:solidFill>
                <a:latin typeface="Verdana"/>
              </a:rPr>
              <a:t>Planning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Vervolg en rondvraag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volg proces en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Nog andere belangrijke opmerkingen die besproken moeten word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ervolg proces, planning en afspraken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ember/december: KING verwerkt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ember/december: KING bereidt vaststellingsproces vo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ranciers werken softwarecatalogus bij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rancier wer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: Aangepaste specificatie wordt rondgestuurd aan werkgroe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: Deelnemers geven goedkeuring per 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sluitende? bijeenkomst voor de specifica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demonstraties van proefimplementati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eter Klaver (</a:t>
            </a:r>
            <a:r>
              <a:rPr b="0" lang="nl-NL" sz="1600" spc="-1" strike="noStrike" u="sng">
                <a:solidFill>
                  <a:srgbClr val="fdf004"/>
                </a:solidFill>
                <a:uFillTx/>
                <a:latin typeface="Verdana"/>
                <a:hlinkClick r:id="rId1"/>
              </a:rPr>
              <a:t>peter.klaver@kinggemeenten.nl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Jan Brinkkemper (</a:t>
            </a:r>
            <a:r>
              <a:rPr b="0" lang="nl-NL" sz="1600" spc="-1" strike="noStrike" u="sng">
                <a:solidFill>
                  <a:srgbClr val="fdf004"/>
                </a:solidFill>
                <a:uFillTx/>
                <a:latin typeface="Verdana"/>
                <a:hlinkClick r:id="rId2"/>
              </a:rPr>
              <a:t>jan.brinkkemper@kinggemeenten.nl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’s voor toelic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volg proces en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Vandaag: Ingrijpende en tegenstrijdige verbetersuggesties doorneme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November/december: KING verwerkt verbetersuggesties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November/december: KING bereidt vaststellingsproces voor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December: Aangepaste specificatie wordt rondgestuurd aan werkgroep;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December: Deelnemers geven goedkeuring per mail</a:t>
            </a:r>
            <a:br>
              <a:rPr sz="1400"/>
            </a:b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December: afsluitende bijeenkomst OF vervolgbijeenkomst </a:t>
            </a:r>
            <a:br>
              <a:rPr sz="1400"/>
            </a:br>
            <a:r>
              <a:rPr b="0" lang="en-US" sz="1400" spc="-1" strike="noStrike">
                <a:solidFill>
                  <a:srgbClr val="ed0c8b"/>
                </a:solidFill>
                <a:latin typeface="Verdana"/>
              </a:rPr>
              <a:t>(afhankelijk van goedkeuring deelnemers)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vullende specificatie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sluiting op Mijn Overheid Lopende Z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7320"/>
            <a:ext cx="8459640" cy="13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Twee losse specificaties: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lvl="1" marL="490320" indent="-188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Standaard service voor aansluiting op Lopende Zak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90320" indent="-188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Standaard services voor zaaksysteem en D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Standaarden vullen elkaar aa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Gebaseerd op bestaande aansluitdocumentatie Lopende Zaken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226080" indent="-226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Lopende Zaken is service provider van service om zaakstatus door te geven</a:t>
            </a:r>
            <a:br>
              <a:rPr sz="1400"/>
            </a:br>
            <a:br>
              <a:rPr sz="1400"/>
            </a:br>
            <a:r>
              <a:rPr b="0" lang="nl-NL" sz="14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400040" y="2779560"/>
            <a:ext cx="5829480" cy="2810160"/>
          </a:xfrm>
          <a:prstGeom prst="rect">
            <a:avLst/>
          </a:prstGeom>
          <a:ln w="0">
            <a:noFill/>
          </a:ln>
        </p:spPr>
      </p:pic>
      <p:sp>
        <p:nvSpPr>
          <p:cNvPr id="198" name="Ovaal 1"/>
          <p:cNvSpPr/>
          <p:nvPr/>
        </p:nvSpPr>
        <p:spPr>
          <a:xfrm>
            <a:off x="2657520" y="4019400"/>
            <a:ext cx="1485720" cy="905040"/>
          </a:xfrm>
          <a:prstGeom prst="ellipse">
            <a:avLst/>
          </a:prstGeom>
          <a:noFill/>
          <a:ln w="25560">
            <a:solidFill>
              <a:srgbClr val="d7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ogelijke invulling door system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847800" y="1943280"/>
            <a:ext cx="7448400" cy="1952280"/>
          </a:xfrm>
          <a:prstGeom prst="rect">
            <a:avLst/>
          </a:prstGeom>
          <a:ln w="0">
            <a:noFill/>
          </a:ln>
        </p:spPr>
      </p:pic>
      <p:sp>
        <p:nvSpPr>
          <p:cNvPr id="201" name="Tekstvak 1"/>
          <p:cNvSpPr/>
          <p:nvPr/>
        </p:nvSpPr>
        <p:spPr>
          <a:xfrm>
            <a:off x="1973520" y="475308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canstraat toevoegen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UF Testplatform en opstellen standaard tests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Het StUF Testplatform kan reeds worden gebruikt voor StUF ZKN 3.10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Aanvullend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ard testset die voor alle leveranciers geldt 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itgevoerd dient te worden voorafgaand aan in productn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pname testset in StUF Testplat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Graag opgave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e betrokken wil worden bij opstellen tests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orbeeldberichten die hergebruikt kunnen worden voor te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Denk aan opname van uw softwareproduct in de softwarecatalogus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oces uitwerking en Communic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Processen beschrijven om werking en toepassingsgebied standaard duidelijk </a:t>
            </a:r>
            <a:br>
              <a:rPr sz="1600"/>
            </a:b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te maken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elke gemeenten doen me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view en workshop(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Communicatie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catie is voorbere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lanning na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n productiename  (1/10/2012?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Hoe communiceren?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ieuwsbrief +  diverse vakbladen en websit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Leveranciersspecifieke communicat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a eigen media en kanale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andaard services voor Zaaksysteem en DMS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 hoofdlij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4000" y="14144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Beschrijft services en functionaliteit voor ontsluiten en onderhouden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zaakgegevens en zaakgerelateerde documenten.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ervices zijn gebaseerd op StUF ZKN 3.x / RGBZ 1.0 en CMIS 1.0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pecificatie stelt eisen aan volgende referentiecomponenten (en daarmee aan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oftware producten die invulling geven aan deze referentiecomponenten):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systeem (Z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 DMS brug (Bru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MS (DM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ak Service consumer (Zs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MIS Service consumer (Cs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ed0c8b"/>
                </a:solidFill>
                <a:latin typeface="Verdana"/>
              </a:rPr>
              <a:t>Eén optionaliteit: CMIS interface voor </a:t>
            </a:r>
            <a:br>
              <a:rPr sz="1600"/>
            </a:br>
            <a:r>
              <a:rPr b="1" lang="en-US" sz="1600" spc="-1" strike="noStrike">
                <a:solidFill>
                  <a:srgbClr val="ed0c8b"/>
                </a:solidFill>
                <a:latin typeface="Verdana"/>
              </a:rPr>
              <a:t>CMIS Service consumer (2c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5762520" y="4335480"/>
          <a:ext cx="3381480" cy="25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2520" y="4335480"/>
                    <a:ext cx="33814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ferentie architectu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000" y="9334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ijdelijke aanduiding voor inhoud 6"/>
          <p:cNvSpPr/>
          <p:nvPr/>
        </p:nvSpPr>
        <p:spPr>
          <a:xfrm>
            <a:off x="68436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504800" y="1417680"/>
          <a:ext cx="57819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417680"/>
                    <a:ext cx="57819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trodu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atste bijeenkom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atie op 95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g niet voldoende voor vaststellingspro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enen laatste wijzigingen datum 22/9/2012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e op basis van proefimplementa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a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100 inhoudelijke verbetersugges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rijpende wijzigingen aan specificatie nod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aro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 vroeg om specificatie vandaag vast te stel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ndaag gebruiken om (beoogde) wijzigingen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7760" y="1276200"/>
          <a:ext cx="6596280" cy="4527720"/>
        </p:xfrm>
        <a:graphic>
          <a:graphicData uri="http://schemas.openxmlformats.org/drawingml/2006/table">
            <a:tbl>
              <a:tblPr/>
              <a:tblGrid>
                <a:gridCol w="604800"/>
                <a:gridCol w="2116440"/>
                <a:gridCol w="1936800"/>
                <a:gridCol w="1938240"/>
              </a:tblGrid>
              <a:tr h="179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f #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pplicatieservi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f. comp provid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Ref. comp. consum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98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adplegen zaakgegeve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statu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detai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derhouden zaakgegeve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ua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eer Zaakstatu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reëer Zaa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date Zaa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eer Zaakidentificati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adplegen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lijst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document lez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derhouden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oeg Zaakdocument to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ppel Zaakdocument aan Zaa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ak Zaakdoc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pdate Zaakdoc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ef Zaakdocument bewerk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eer Documentidentificati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iseren van zaakgegevens en zaakdocumente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iseer zaakgegevens (van DMS naar Zaaksysteem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M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ynchroniseer zaakdocumenten (van Zaaksysteem naar DM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ru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mo / toelichting proefimplementatie doo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CT en EXX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5001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3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koppeling  voortgang proefimplementa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97164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ed0c8b"/>
                </a:solidFill>
                <a:latin typeface="Verdana"/>
              </a:rPr>
              <a:t>Opname  van de standaard in de softwarecatalogus.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ed0c8b"/>
                </a:solidFill>
                <a:latin typeface="Verdana"/>
              </a:rPr>
              <a:t>Geven deze gegevens een betrouwbaar beeld?</a:t>
            </a: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193920" y="1760400"/>
            <a:ext cx="5345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koppeling reviewro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000" y="11476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Op laatste moment nog veel verbetersuggesties ontvangen</a:t>
            </a:r>
            <a:br>
              <a:rPr sz="1800"/>
            </a:b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&gt; 100 inhoudelijke verbetersuggesties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d0c8b"/>
                </a:solidFill>
                <a:latin typeface="Verdana"/>
              </a:rPr>
              <a:t>Conclusie: </a:t>
            </a: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1) Er is behoefte aan meer scherpte en helderhei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2) De uitwerking van implementatievarianten (middels de “brug”) zorgt voor onduidelijkhe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) De referentie architectuur wordt 1-op-1 gekoppeld aan softwareproduc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) Onduidelijk is wat verplicht/optioneel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n. op webservice/functie niveau i.r.t. referentiecompon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5) Interacties kunnen niet altijd scherp gespecificeerd worden doo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ptionalitei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d0c8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zicht te bespreken verbetersugges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000" y="11239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Aangepaste referentiearchitectuur; verbeterde verdeling van functionaliteit over referentie componenten </a:t>
            </a:r>
            <a:br>
              <a:rPr sz="1600"/>
            </a:br>
            <a:r>
              <a:rPr b="0" lang="nl-NL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Interfaces voor DMS uitsluitend op basis van CMIS (StUF document interface optioneel)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ak definiëren welke CMIS operaties/services gebruikt moeten wo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Motivatie gebruik CMIS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erplicht ondersteunen van StUF stuurgegevens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tUF services aanbieden zoals voorgeschreven in StUF 3.01 specificatie</a:t>
            </a:r>
            <a:br>
              <a:rPr sz="1600"/>
            </a:b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Wijzigingen op zaken middels StUF berichten ‘pushen’ naar zaakafhandelende consumers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49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1) Aangepaste referentiearchitectuur; verbeter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deling van functionaliteit over referentie componen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1239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Situatie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ken DMS Brug is ontstaan om 4 implementatievarianten te ondersteun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ken DMS Brug zorgt als (hulp) referentiecomponent voor onduidelijkhe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dt gezien als los softwareproduct met eigen interf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Zaken DMS Brug wordt gezien als doel opzic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Zaken DMS Brug wordt vaak 1 op 1 geassocieerd met de specificatie. Dit maakt de standaard te “eng” en wekt een verkeerde verwacht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d0c8b"/>
                </a:solidFill>
                <a:latin typeface="Verdana"/>
              </a:rPr>
              <a:t>Voorstel</a:t>
            </a: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aliteit van de Zaken DMS Brug onderbrengen bij Zaaksysteem (implementatievariant B in huidige specificati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ices worden op volgende manier verdeeld over de referentiecomponente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2" name="Tijdelijke aanduiding voor datum 3"/>
          <p:cNvSpPr/>
          <p:nvPr/>
        </p:nvSpPr>
        <p:spPr>
          <a:xfrm>
            <a:off x="227160" y="5923080"/>
            <a:ext cx="4925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1) Aangepaste referentiearchitectuur; verbeter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deling van functionaliteit over referentie compon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4000" y="112392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d0c8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ed0c8b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1066680" y="1311120"/>
          <a:ext cx="660096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11120"/>
                    <a:ext cx="660096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kstvak 6"/>
          <p:cNvSpPr/>
          <p:nvPr/>
        </p:nvSpPr>
        <p:spPr>
          <a:xfrm>
            <a:off x="4724280" y="3720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d0c8b"/>
                </a:solidFill>
                <a:latin typeface="Verdana"/>
                <a:ea typeface="Verdana"/>
              </a:rPr>
              <a:t>optione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4:49:12Z</dcterms:created>
  <dc:creator>user</dc:creator>
  <dc:description/>
  <dc:language>en-US</dc:language>
  <cp:lastModifiedBy>Jan Brinkkemper</cp:lastModifiedBy>
  <cp:lastPrinted>2011-01-16T10:24:48Z</cp:lastPrinted>
  <dcterms:modified xsi:type="dcterms:W3CDTF">2012-10-25T09:07:01Z</dcterms:modified>
  <cp:revision>260</cp:revision>
  <dc:subject/>
  <dc:title>Slide 1</dc:title>
</cp:coreProperties>
</file>